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lick to move the slide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8AEB-7B54-43C2-8704-24B97AC47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F86A-D1AA-48AF-B5A6-D67D459D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FC6D-F829-4AA6-A4D0-56A31F55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D5FB-5E18-40CB-882D-2C0C31DE0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2CDF-74AF-42F7-A818-34555927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0F6D-71E2-4AC8-AD15-72AA1284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69DE-B98B-4A02-A888-F088D5F9A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00FD-A4D4-4519-96D6-2DA9090DA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0DD6-D921-489D-81F5-7E9846157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72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016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72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016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E57A-2FEE-4DC9-AAF7-5A496DD22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8A61-606A-4AF9-AC36-72D3D760A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72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016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72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016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8378-5DFC-4B77-9591-8BCF1A8F8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41EE-266F-4024-AE0F-848AC1439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E0A2-335C-415C-B012-84CD0B5A9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0E8C-4AF2-4BA3-A6E1-34448CB91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B876-2D33-4B80-9956-BD8B41AB7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CEFB-2A4E-42D2-A233-E284B29CE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3023-568F-49B3-9F4C-10B04C995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Users\Andrew\AppData\Local\Microsoft\Windows\Temporary Internet Files\Content.Outlook\F3Q81RG3\GLO 0001 PPT_FollowUp_Def (4)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lick to edit the title text format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1920" y="6616440"/>
            <a:ext cx="1954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237E-779D-4C27-98D9-8FF2C0BEA8A6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C:\Users\Andrew\AppData\Local\Microsoft\Windows\Temporary Internet Files\Content.Outlook\F3Q81RG3\GLO 0001 PPT_Front_Def (4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lick to edit the title text format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EF6-1CCC-4659-BEF9-370573DA1CFF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3d1"/>
                </a:solidFill>
                <a:latin typeface="Century Gothic"/>
              </a:rPr>
              <a:t>Sample check-out process at www.supersecret.com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88" name="Picture 4" descr="Clipboard01.jpg"/>
          <p:cNvPicPr/>
          <p:nvPr/>
        </p:nvPicPr>
        <p:blipFill>
          <a:blip r:embed="rId1"/>
          <a:stretch/>
        </p:blipFill>
        <p:spPr>
          <a:xfrm>
            <a:off x="1312920" y="1670040"/>
            <a:ext cx="651816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DDC0-5C7C-4303-87E8-54ABB3623290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ustomer selects card type (hosted by merchant) 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91" name="Picture 4" descr="Clipboard01.jpg"/>
          <p:cNvPicPr/>
          <p:nvPr/>
        </p:nvPicPr>
        <p:blipFill>
          <a:blip r:embed="rId1"/>
          <a:stretch/>
        </p:blipFill>
        <p:spPr>
          <a:xfrm>
            <a:off x="838080" y="1806480"/>
            <a:ext cx="74678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55A8-7E0D-4DD8-A1CD-E604FEF6ACF8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255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3d1"/>
                </a:solidFill>
                <a:latin typeface="Century Gothic"/>
              </a:rPr>
              <a:t>After selection, GlobalCollect hosted payment fields loaded into frame (InsertOrderWithPayment). </a:t>
            </a:r>
            <a:br>
              <a:rPr sz="2000"/>
            </a:br>
            <a:r>
              <a:rPr b="0" lang="en-US" sz="2000" spc="-1" strike="noStrike">
                <a:solidFill>
                  <a:srgbClr val="0093d1"/>
                </a:solidFill>
                <a:latin typeface="Century Gothic"/>
              </a:rPr>
              <a:t>Stylesheet (CSS) render from Merchant’s web server - GlobalCollect payment fields match page layout. </a:t>
            </a:r>
            <a:endParaRPr b="0" lang="en-US" sz="20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94" name="Picture 4" descr="Clipboard01.jpg"/>
          <p:cNvPicPr/>
          <p:nvPr/>
        </p:nvPicPr>
        <p:blipFill>
          <a:blip r:embed="rId1"/>
          <a:stretch/>
        </p:blipFill>
        <p:spPr>
          <a:xfrm>
            <a:off x="606600" y="2279520"/>
            <a:ext cx="73310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63D2-C3CE-427E-9325-1AD10705E922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Merchant verifies payment status with GlobalCollect in realtime (GetOrderStatus API after customer clicks Continue button). 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97" name="Picture 4" descr="Clipboard01.jpg"/>
          <p:cNvPicPr/>
          <p:nvPr/>
        </p:nvPicPr>
        <p:blipFill>
          <a:blip r:embed="rId1"/>
          <a:stretch/>
        </p:blipFill>
        <p:spPr>
          <a:xfrm>
            <a:off x="477720" y="1971720"/>
            <a:ext cx="8053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829E-BF53-4505-90DE-E0FECEB7A5A0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Successful payment status received, access to site granted. 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100" name="Picture 4" descr="Clipboard01.jpg"/>
          <p:cNvPicPr/>
          <p:nvPr/>
        </p:nvPicPr>
        <p:blipFill>
          <a:blip r:embed="rId1"/>
          <a:stretch/>
        </p:blipFill>
        <p:spPr>
          <a:xfrm>
            <a:off x="392040" y="1866960"/>
            <a:ext cx="70614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5:44:52Z</dcterms:created>
  <dc:creator>Administrator</dc:creator>
  <dc:description/>
  <dc:language>en-US</dc:language>
  <cp:lastModifiedBy>russ</cp:lastModifiedBy>
  <dcterms:modified xsi:type="dcterms:W3CDTF">2010-10-25T03:42:29Z</dcterms:modified>
  <cp:revision>73</cp:revision>
  <dc:subject/>
  <dc:title>Title</dc:title>
</cp:coreProperties>
</file>