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Click to move the slide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6279-EC31-4F7A-869A-CCC11A8E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DA0-7385-473F-8427-90E08352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EE98-EE7A-48C6-9412-471EF813C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4DAD-31E2-4F3A-A5E0-0F9FF32D2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77F8-FDBD-45FE-A3FB-ADC37A12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EBA6-9E5A-47BD-987F-946190A2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2266-4389-4A77-94AB-2453D5E93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7A29-7FBD-4EC8-9820-B24863CDD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232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38DE-533E-457C-AA6D-E3AEB5A61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72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016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72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016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9A79-AFF5-4A8F-82DE-D205C5F79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EAB6-8E7A-403F-B355-2AAB40747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1232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1232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72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016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72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016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8A6B-62D4-4F50-8AE6-3831980C4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D8F8-D444-4458-8C4A-44A7F2DB2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78B1-6BD6-42A8-A300-0C1BB94CF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7AAC-AA53-40CD-8C10-CE9361F06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0B0E-2CF1-4CFD-9791-3F02146DE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232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89EF-D21A-42FF-BBB5-FE5C1044D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27CC-6FA3-43BC-8BF3-EBD172F98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Users\Andrew\AppData\Local\Microsoft\Windows\Temporary Internet Files\Content.Outlook\F3Q81RG3\GLO 0001 PPT_FollowUp_Def (4)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Click to edit the title text format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3d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93d1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1920" y="6616440"/>
            <a:ext cx="1954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AE00-5C90-47B2-AE01-2BE7475B60B3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C:\Users\Andrew\AppData\Local\Microsoft\Windows\Temporary Internet Files\Content.Outlook\F3Q81RG3\GLO 0001 PPT_Front_Def (4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Click to edit the title text format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3d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93d1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550"/>
              </a:spcBef>
              <a:buClr>
                <a:srgbClr val="0093d1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F602-D6B7-4856-B570-5FCFF4C6881B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3d1"/>
                </a:solidFill>
                <a:latin typeface="Century Gothic"/>
              </a:rPr>
              <a:t>Sample check-out process at www.supersecret.com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88" name="Picture 4" descr="Clipboard01.jpg"/>
          <p:cNvPicPr/>
          <p:nvPr/>
        </p:nvPicPr>
        <p:blipFill>
          <a:blip r:embed="rId1"/>
          <a:stretch/>
        </p:blipFill>
        <p:spPr>
          <a:xfrm>
            <a:off x="1312920" y="1670040"/>
            <a:ext cx="651816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978C-9A2C-47EE-A4CB-4A5275EB09A5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Customer selects card type (hosted by merchant) 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91" name="Picture 4" descr="Clipboard01.jpg"/>
          <p:cNvPicPr/>
          <p:nvPr/>
        </p:nvPicPr>
        <p:blipFill>
          <a:blip r:embed="rId1"/>
          <a:stretch/>
        </p:blipFill>
        <p:spPr>
          <a:xfrm>
            <a:off x="838080" y="1806480"/>
            <a:ext cx="74678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07D6-21D8-42F9-8550-70F6CF40EA74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255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3d1"/>
                </a:solidFill>
                <a:latin typeface="Century Gothic"/>
              </a:rPr>
              <a:t>After selection, GlobalCollect hosted payment fields loaded into frame (InsertOrderWithPayment). </a:t>
            </a:r>
            <a:br>
              <a:rPr sz="2000"/>
            </a:br>
            <a:r>
              <a:rPr b="0" lang="en-US" sz="2000" spc="-1" strike="noStrike">
                <a:solidFill>
                  <a:srgbClr val="0093d1"/>
                </a:solidFill>
                <a:latin typeface="Century Gothic"/>
              </a:rPr>
              <a:t>Stylesheet (CSS) render from Merchant’s web server - GlobalCollect payment fields match page layout. </a:t>
            </a:r>
            <a:endParaRPr b="0" lang="en-US" sz="20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94" name="Picture 4" descr="Clipboard01.jpg"/>
          <p:cNvPicPr/>
          <p:nvPr/>
        </p:nvPicPr>
        <p:blipFill>
          <a:blip r:embed="rId1"/>
          <a:stretch/>
        </p:blipFill>
        <p:spPr>
          <a:xfrm>
            <a:off x="606600" y="2279520"/>
            <a:ext cx="73310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66C9-E807-4281-83BD-DEB9099CFE50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Merchant verifies payment status with GlobalCollect in realtime (GetOrderStatus API after customer clicks Continue button). 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97" name="Picture 4" descr="Clipboard01.jpg"/>
          <p:cNvPicPr/>
          <p:nvPr/>
        </p:nvPicPr>
        <p:blipFill>
          <a:blip r:embed="rId1"/>
          <a:stretch/>
        </p:blipFill>
        <p:spPr>
          <a:xfrm>
            <a:off x="477720" y="1971720"/>
            <a:ext cx="8053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1920" y="6616800"/>
            <a:ext cx="1954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A5B-879C-4F31-B06A-FE3DA41BA392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3d1"/>
                </a:solidFill>
                <a:latin typeface="Century Gothic"/>
              </a:rPr>
              <a:t>Successful payment status received, access to site granted. </a:t>
            </a:r>
            <a:endParaRPr b="0" lang="en-US" sz="2400" spc="-1" strike="noStrike">
              <a:solidFill>
                <a:srgbClr val="0093d1"/>
              </a:solidFill>
              <a:latin typeface="Century Gothic"/>
            </a:endParaRPr>
          </a:p>
        </p:txBody>
      </p:sp>
      <p:pic>
        <p:nvPicPr>
          <p:cNvPr id="100" name="Picture 4" descr="Clipboard01.jpg"/>
          <p:cNvPicPr/>
          <p:nvPr/>
        </p:nvPicPr>
        <p:blipFill>
          <a:blip r:embed="rId1"/>
          <a:stretch/>
        </p:blipFill>
        <p:spPr>
          <a:xfrm>
            <a:off x="392040" y="1866960"/>
            <a:ext cx="70614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5:44:52Z</dcterms:created>
  <dc:creator>Administrator</dc:creator>
  <dc:description/>
  <dc:language>en-US</dc:language>
  <cp:lastModifiedBy>russ</cp:lastModifiedBy>
  <dcterms:modified xsi:type="dcterms:W3CDTF">2010-10-25T03:42:29Z</dcterms:modified>
  <cp:revision>73</cp:revision>
  <dc:subject/>
  <dc:title>Title</dc:title>
</cp:coreProperties>
</file>